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9BA-BFB3-44CD-925F-55157C59B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7FB0-FF2F-4BF3-849B-E4F05DE1F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D4DB-6AA8-4912-8F0B-1E58D4AB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CC6D-E859-4AC0-8F20-9231CF54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AE33-963E-49F4-9E0E-F5D36B29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54D-0DE7-4A20-943B-AB6D4694C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7F6-32ED-4F72-9764-E4DBC0A49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900-E5CD-4DF1-9A8B-F37ED3032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77BF-61A4-4700-B155-EEF9A6CC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7584-99C4-4272-8569-41B70F33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AA8A-99AC-4253-8058-F55C1EE3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FD65-859D-4BC1-850A-FF174BC60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D658-4A74-427E-BFE3-E5F5EDF6DE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685800"/>
            <a:ext cx="273672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Marketing-Mix (Laden / Versa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0492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DRES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111744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Charge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73280" y="901800"/>
            <a:ext cx="1368360" cy="21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673280" y="111744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Preis(€/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1981080"/>
            <a:ext cx="136656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3280" y="1981080"/>
            <a:ext cx="13669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2413080"/>
            <a:ext cx="136656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3280" y="2413080"/>
            <a:ext cx="136692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673280" y="901800"/>
            <a:ext cx="1368360" cy="1942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920" y="2844720"/>
            <a:ext cx="273672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Verkauf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04920" y="685800"/>
            <a:ext cx="2736720" cy="2590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51640" y="10587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580000" y="84312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698400"/>
            <a:ext cx="2736720" cy="1297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058920" y="105876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84312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4788000" y="3722760"/>
            <a:ext cx="4033800" cy="1800000"/>
            <a:chOff x="4788000" y="3722760"/>
            <a:chExt cx="4033800" cy="1800000"/>
          </a:xfrm>
        </p:grpSpPr>
        <p:sp>
          <p:nvSpPr>
            <p:cNvPr id="60" name=""/>
            <p:cNvSpPr/>
            <p:nvPr/>
          </p:nvSpPr>
          <p:spPr>
            <a:xfrm>
              <a:off x="4788000" y="3722760"/>
              <a:ext cx="4033800" cy="1800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6084720" y="4227480"/>
              <a:ext cx="2519640" cy="142560"/>
              <a:chOff x="6084720" y="4227480"/>
              <a:chExt cx="2519640" cy="142560"/>
            </a:xfrm>
          </p:grpSpPr>
          <p:sp>
            <p:nvSpPr>
              <p:cNvPr id="62" name=""/>
              <p:cNvSpPr/>
              <p:nvPr/>
            </p:nvSpPr>
            <p:spPr>
              <a:xfrm>
                <a:off x="6084720" y="430020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596360" y="430020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" name=""/>
              <p:cNvGrpSpPr/>
              <p:nvPr/>
            </p:nvGrpSpPr>
            <p:grpSpPr>
              <a:xfrm>
                <a:off x="7236000" y="4227480"/>
                <a:ext cx="144360" cy="142560"/>
                <a:chOff x="7236000" y="4227480"/>
                <a:chExt cx="144360" cy="14256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7236000" y="430020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7308720" y="4227480"/>
                  <a:ext cx="0" cy="1425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7" name=""/>
          <p:cNvGrpSpPr/>
          <p:nvPr/>
        </p:nvGrpSpPr>
        <p:grpSpPr>
          <a:xfrm>
            <a:off x="324000" y="3579840"/>
            <a:ext cx="2736720" cy="3095640"/>
            <a:chOff x="324000" y="3579840"/>
            <a:chExt cx="2736720" cy="3095640"/>
          </a:xfrm>
        </p:grpSpPr>
        <p:sp>
          <p:nvSpPr>
            <p:cNvPr id="68" name=""/>
            <p:cNvSpPr/>
            <p:nvPr/>
          </p:nvSpPr>
          <p:spPr>
            <a:xfrm>
              <a:off x="324000" y="357984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2400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401148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92360" y="379548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92360" y="40114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444312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92360" y="444312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4000" y="494820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692360" y="494820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92360" y="379548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24000" y="545148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24000" y="357984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566712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610056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638784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826920" y="26028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mit Versandmarkt (P3 und P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580000" y="2421000"/>
            <a:ext cx="1440000" cy="130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12000" y="25718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3059280" y="2421000"/>
            <a:ext cx="1008000" cy="11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48000" y="251316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995640" y="692280"/>
            <a:ext cx="1657440" cy="1728720"/>
            <a:chOff x="3995640" y="692280"/>
            <a:chExt cx="1657440" cy="1728720"/>
          </a:xfrm>
        </p:grpSpPr>
        <p:grpSp>
          <p:nvGrpSpPr>
            <p:cNvPr id="90" name=""/>
            <p:cNvGrpSpPr/>
            <p:nvPr/>
          </p:nvGrpSpPr>
          <p:grpSpPr>
            <a:xfrm>
              <a:off x="3995640" y="692280"/>
              <a:ext cx="1657440" cy="1728720"/>
              <a:chOff x="3995640" y="692280"/>
              <a:chExt cx="1657440" cy="1728720"/>
            </a:xfrm>
          </p:grpSpPr>
          <p:sp>
            <p:nvSpPr>
              <p:cNvPr id="91" name=""/>
              <p:cNvSpPr/>
              <p:nvPr/>
            </p:nvSpPr>
            <p:spPr>
              <a:xfrm>
                <a:off x="3995640" y="692280"/>
                <a:ext cx="1656000" cy="438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3200" rIns="432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1. Geplanter Absatz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Comic Sans MS"/>
                  </a:rPr>
                  <a:t>(Laden / Versand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995640" y="1130400"/>
                <a:ext cx="1656000" cy="431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DRESS (Chargen):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Comic Sans MS"/>
                  </a:rPr>
                  <a:t>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995640" y="1562040"/>
                <a:ext cx="1656000" cy="432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Comic Sans MS"/>
                  </a:rPr>
                  <a:t>Großabnehmer (DRESS):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3995640" y="692280"/>
                <a:ext cx="1657440" cy="17287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5" name=""/>
            <p:cNvSpPr/>
            <p:nvPr/>
          </p:nvSpPr>
          <p:spPr>
            <a:xfrm>
              <a:off x="3995640" y="198900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3096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8120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557360"/>
            <a:ext cx="266364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Comic Sans MS"/>
              </a:rPr>
              <a:t>Printwerbung(€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24T21:43:30Z</dcterms:modified>
  <cp:revision>24</cp:revision>
  <dc:subject/>
  <dc:title>Folie 1</dc:title>
</cp:coreProperties>
</file>